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06D-F620-4FF5-9939-2D608068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9C9-4C8B-4BBA-B564-857AA24C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2D4-1A9D-4EED-A0F0-D2EF9CB4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55C-E07B-4B8D-BE9C-B89A816D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C071-7FD0-40F4-8077-787A8948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138-B462-437F-9A03-94C70296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7D88-EDFC-4D16-AD48-F2989501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0ED7-97CB-4CDC-B8E8-4F5C1C1B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4F41-5955-41D1-87CC-B4D1BEB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4124-3EF8-4330-A712-7E5A3516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49BD-F22D-4F59-ADCA-E4EDDC43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100-1A09-4321-9D1B-8A7EF3B5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F557-5673-4057-A8A5-EB969B9E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9D47-56D8-4133-BE3D-79B8B32A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2540-9F31-453F-B631-1DF8BCF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419D-C66E-423A-89A0-21D67520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2DFC-84AF-4628-BD1B-3DDF62E6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F1CF-ABA7-4AAB-9E3F-3BC18D82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C406-DD4A-4C17-863C-A8132A7E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82F1-D0CF-4F38-811D-D7AC1A3A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594EE-63BE-4DE1-9F76-4519DAC0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24DC-6E13-4BF4-9306-B6203997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4D1-9BB9-4DA9-B35E-B8F18750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B3FD-3AE4-4AA5-B21A-476BA90E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CF1A1-6178-49B6-A81C-914DC22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8FB2-6ECD-4C91-87E9-8D2F8D00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9160-E7F3-4B5D-9A86-DB3AA2B7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3EEC-1D89-4679-B6E3-0550C7C3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421C-9694-4397-843B-FC0D7F14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F6E6-BD4E-484F-9837-18F1EBD4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9D53-95AF-4574-8632-FD0FFCF4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B92E-78E1-4C07-9340-3E2A1330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F809-DB29-474F-B541-B6971E5B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C25-C8B3-4F18-A1E4-F426BB9B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26AB-C027-4C7A-8D19-921F395B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EE2F8-43EF-4EF2-8817-CF934218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A874-DB78-4575-BA58-88333426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7A8D-98C4-4950-A936-1F3DA9AE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201A-7CCA-41C5-BADC-1BFF4AD9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935D8-CDFA-4212-B18D-287C67D9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36EC-6561-4BD9-AB08-4E5B31DA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2779-2D40-4AD5-ADDD-0957A336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AB15-D91A-4BCD-ABBF-061143EE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6F772-8AEB-42A3-997C-0538B70B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79D-29BD-4ADD-9792-87B0C0B8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FD9C5-EE1D-496B-99A0-D02A713C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F9FC7-5363-4600-946E-B585B2EB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572B-75A9-4BD6-8BFA-1EAEEC78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AF3E4-5D68-4701-A5AB-12809059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7830-48F2-4DA9-A2B9-92AFEB9F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52CF8-9C09-4275-967B-8447F42E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EC54-97F4-45C7-BEF6-B9C19A5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75B37-FDBF-412B-B705-F6EA9A00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8578F-D33B-4FB3-BBB8-A19AE8FF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FE7E-9F16-421D-B6F6-C9EEAB17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99A-4001-4F89-B4C2-056A3D36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12BB0-EE8A-42C9-97E2-DDE7D7C3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38F2F-0E8D-419D-82B4-4301F2E8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FBE8-EFA7-4D1B-8B43-4AAC2306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71BAD-1001-45B0-A5D9-F809EFE3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924A6-92DB-486D-88D0-CF894776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44A9D-9C37-4EA9-A660-32254ABA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24C0-2167-488A-824C-A11D8CD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80609-7463-4991-BEB0-5D3A27A2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1CA5B-DA35-4C79-9AFE-1C27330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5EF16-5C5D-41FA-B52C-C262159C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D43-B37B-43CF-8DC9-C88CA32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19F7-30EC-481C-9F7E-00ED2B27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5EA92-68BD-46A2-9089-AE13A4F4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71C8D-0085-4F78-A098-589D7337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FB686-5EE8-4FF5-B238-183781D2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77369-663B-4604-8DE1-6A149C73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E67AD-89F4-47F7-AB94-6E811677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132C0-36BC-471D-9F3D-CA8447D2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11088-9270-4FCB-A26F-C3D7C73A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95CDE-58C4-4503-B549-63535BAD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0EE05-7BC5-43A9-957A-CB08B719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4CB-4A0A-44B3-BA24-CA3EF9D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7D25-E9C6-4497-83E0-103B2A11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86996-665C-401D-9F93-9E8D1A3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A3E95-4DC2-458F-93F5-C231CECB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26B58-8C9A-4B73-9108-36AE9277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2FDE-B871-45BE-9291-FD7A5C99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E6B-8064-453B-9D06-ECA28A27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원형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타원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도넛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도넛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직사각형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CDE-A4A3-40DA-85CB-B7EA1FFD3C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직사각형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원형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타원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도넛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도넛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직사각형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직사각형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타원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타원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타원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9327-5147-417E-A58F-029B7268AA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직사각형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직사각형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타원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타원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타원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A8EC-3DCE-4962-B5A3-FE92E68AE6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1912-24C9-4E6A-AB15-B86F328899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직사각형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65AF-2F65-4C3A-B23C-4D4068F481A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CD3-BBB5-4F99-9451-1E89BE35BC0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직사각형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직사각형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순서도: 처리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순서도: 처리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F0E6-D3A7-4405-9023-B067E68DD4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dule 34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 to Psychological 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sorders: Anxiety Disord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hobi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바닥글 개체 틀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imes New Roman"/>
              </a:rPr>
              <a:t>Some Common and Uncommon F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sessive-Compulsive Disord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바닥글 개체 틀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51220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laining Anxiety disord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earning Perspec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ar Conditi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imulus Generaliz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inforc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servational Lear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Biological Perspec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olu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ysi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바닥글 개체 틀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901880" y="1166760"/>
            <a:ext cx="5334120" cy="51577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Times New Roman"/>
              </a:rPr>
              <a:t>A PET Scan of the Brain of a Person with Obsessive-Compulsive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72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erspectives on Psychological Disorder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fining Psychological Disord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derstanding Psychological Disord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edical Perspec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dical model – “a sicknes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Bio-Psycho-Social Perspecti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바닥글 개체 틀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26200" cy="47242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357120" y="228600"/>
            <a:ext cx="83296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imes New Roman"/>
              </a:rPr>
              <a:t>The Bio-Psycho-Social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19047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assifying Psychological Disord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abeling Psychological Disord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그림 3" descr="DSM-IV.jpg"/>
          <p:cNvPicPr/>
          <p:nvPr/>
        </p:nvPicPr>
        <p:blipFill>
          <a:blip r:embed="rId1"/>
          <a:stretch/>
        </p:blipFill>
        <p:spPr>
          <a:xfrm>
            <a:off x="2786040" y="1643040"/>
            <a:ext cx="3143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ates of Psychological Disord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휴먼매직체"/>
              </a:rPr>
              <a:t>Where one gets depressed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내용 개체 틀 4" descr="8060.gif"/>
          <p:cNvPicPr/>
          <p:nvPr/>
        </p:nvPicPr>
        <p:blipFill>
          <a:blip r:embed="rId1"/>
          <a:stretch/>
        </p:blipFill>
        <p:spPr>
          <a:xfrm>
            <a:off x="1565280" y="1657440"/>
            <a:ext cx="7238880" cy="4381560"/>
          </a:xfrm>
          <a:prstGeom prst="rect">
            <a:avLst/>
          </a:prstGeom>
          <a:ln w="0">
            <a:noFill/>
          </a:ln>
        </p:spPr>
      </p:pic>
      <p:sp>
        <p:nvSpPr>
          <p:cNvPr id="335" name="바닥글 개체 틀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Anxiety Disord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eralized Anxiety Disorder and Panic Disord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바닥글 개체 틀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Exploring in Modules, Module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19:22:23Z</dcterms:created>
  <dc:creator>bfw</dc:creator>
  <dc:description/>
  <dc:language>en-US</dc:language>
  <cp:lastModifiedBy>정환호</cp:lastModifiedBy>
  <dcterms:modified xsi:type="dcterms:W3CDTF">2009-01-04T08:39:57Z</dcterms:modified>
  <cp:revision>10</cp:revision>
  <dc:subject/>
  <dc:title>Module 43 Introduction to Psychological Disorders</dc:title>
</cp:coreProperties>
</file>